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D91-E881-4F76-A864-C53AE90C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DDB-2EBD-44AB-952F-DA796325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2FE-5D9B-444F-9F84-4105F23C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909-42A8-49FF-8B18-5BE8C3C3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3D30-84ED-43E8-B195-B7EFB331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23BA-78EB-4DE9-BA37-F2153C39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4472-608A-46AC-B69E-A62E9057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211F-C11C-4D97-9259-450B1F82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AE60-C94D-4B0D-86A6-0EDFEDF7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68E8-3CC6-4EED-80C5-8BD57156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5F42-5FAF-46B9-85D2-C054B62E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5B4-58BA-4CAF-930D-CBB6967C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0691-E1B6-474D-B65E-E54CF0B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8F12-A98A-45EF-B5CF-0D637431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3144-FDE2-427D-806F-9D635514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B420-A140-4CA5-9E22-017778B2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0F6C-8F31-40D4-A64D-78CA3A76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D3D-C053-438B-B11E-8FC66616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658-6A61-423E-AD89-A7EB97EE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EA8-52F1-40E7-BEBE-534C13B4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7A1-449D-46ED-BE13-483BA0F6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4AD-CACC-44FF-88E0-48A1E2F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2F4-564D-47CD-9B20-234DE24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4B8-74AB-443B-800F-00D110CF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3ACA-5F22-48B2-A2B0-76BBFA7D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36ED-E819-4694-BC16-53D294FE42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51400"/>
            <a:ext cx="7772400" cy="25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ylfaen"/>
              </a:rPr>
              <a:t>Neutrality Acts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Sylfaen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ffcc00"/>
                </a:solidFill>
                <a:latin typeface="Sylfaen"/>
              </a:rPr>
              <a:t>Lend-Leas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lfaen"/>
              </a:rPr>
              <a:t>Neutrality Ac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19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prohibited export of “arms, ammunition, &amp; implements of war” to foreign, warring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19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warring nations could get any item except a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19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lifted arms embargo, putting all trade with warring nations under terms of “cash-&amp;-car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lfaen"/>
              </a:rPr>
              <a:t>any item could be sold as long as it was immediately paid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lfaen"/>
              </a:rPr>
              <a:t>Lend-Lea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United States would provide a country with supplies needed to fight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the country woul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lfae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have to pay the United States back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United States contracted Lend-Lease agreements with 30+ countries, worth $50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program was designed to allow America to indirectly help defeat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lfaen"/>
              </a:rPr>
              <a:t>Pearl Harb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December 7, 19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hundreds of Japanese bombers &amp; fighters attacked naval base Pearl Har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lfaen"/>
              </a:rPr>
              <a:t>2,400 Americans d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lfaen"/>
              </a:rPr>
              <a:t>nearly 200 aircraft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lfaen"/>
              </a:rPr>
              <a:t>all but 8 battleships were sunk/dam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December 8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 US declares war on Ja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December 11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 Germany &amp; Italy declare war on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lfaen"/>
              </a:rPr>
              <a:t>On a sheet of paper…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  <a:ea typeface="Times New Roman"/>
              </a:rPr>
              <a:t>Answer the follow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  <a:ea typeface="Times New Roman"/>
              </a:rPr>
              <a:t>What were the Neutrality Acts and the Lend-Lease program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  <a:ea typeface="Times New Roman"/>
              </a:rPr>
              <a:t>What did they do for the United Stat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  <a:ea typeface="Times New Roman"/>
              </a:rPr>
              <a:t>How did they affect the econom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  <a:ea typeface="Times New Roman"/>
              </a:rPr>
              <a:t>Do you believe these policies kept the United States neutra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  <a:ea typeface="Times New Roman"/>
              </a:rPr>
              <a:t>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cerdote, Kevin R.</dc:creator>
  <dc:description/>
  <dc:language>en-US</dc:language>
  <cp:lastModifiedBy>Sacerdote, Kevin R.</cp:lastModifiedBy>
  <dcterms:modified xsi:type="dcterms:W3CDTF">2016-01-20T13:36:16Z</dcterms:modified>
  <cp:revision>9</cp:revision>
  <dc:subject/>
  <dc:title>PowerPoint Presentation</dc:title>
</cp:coreProperties>
</file>